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62F5ADC-813D-4A49-B390-98F4C2BF68B5}" type="datetime"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3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© 2007 Welltech Computer Co., Ltd. All right reserv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8A043EB-EC27-433D-ACA2-7E20BC2D559D}" type="slidenum"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頁尾版面配置區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© 2007 Welltech Computer Co., Ltd. All right reserve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© 2007 Welltech Computer Co., Ltd. All right reserve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頁尾版面配置區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© 2007 Welltech Computer Co., Ltd. All right reserve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頁尾版面配置區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© 2007 Welltech Computer Co., Ltd. All right reserve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頁尾版面配置區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© 2007 Welltech Computer Co., Ltd. All right reserve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頁尾版面配置區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© 2007 Welltech Computer Co., Ltd. All right reserve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FC4-29C1-4719-B380-A72238BA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80E-D380-4B87-8E91-2C702626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561-753D-4C6B-98A4-D81E92CD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C69-EB97-4678-BEAF-205640CB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D13-76CE-47E0-A442-8BFF4280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B6DF-AF2E-4689-817D-AB0E522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30A9-A7B0-41D1-A78A-A7E1F9E3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D0E-9C02-4FC8-8B66-1BFA0E0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5597-ADD9-4F03-BC43-3871336D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367A-946B-4255-AFB1-5C0CD275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229E-17B1-447E-BA90-E8384A0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1CF-5DFC-4068-8776-94087F86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1B11-003B-4A49-AA7F-E6009ED9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3B92-D184-4254-9EED-30A4632D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66D6-ABE9-4E43-BE7A-0CC78D31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7178-1B33-4BFA-B3C2-FA7424F5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E3EE-C067-4841-A52C-72BBCBC6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23CC-7336-40E1-AB33-4124C833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76B1-2C02-4583-864A-5EACAF1D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37B3-B800-4829-B027-B55ADC3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A2F9-7492-4C95-9C9D-FC34BE78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16BF-B529-4BFC-B034-DECC8544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BE0-CE09-4F0D-AE7A-ABF2AFA7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969D-F1F2-4090-AF4E-94DFD2FB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CB2B-B5EA-4F3B-982F-10E7EF94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2A1D-D5E3-4190-985C-8AC01B5D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D5E7-E9EE-4054-A802-314659BD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9905-CBD5-495B-BC76-FAFDCB2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C0FE-51D1-4B19-86EF-1D819916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8D68-40EF-4170-BAC2-943E62AC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9760-049C-42EC-8B13-ACE3DCF4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2C33-7026-4766-8FC8-8C39A34C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837C9-5CC2-4BAD-9B69-D4016916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F62-B3C8-4F5A-A428-F3BD1F0C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D16E-E9D1-452C-8A19-9FC2F0B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8791-7520-4A7F-B7B2-3198404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1398-B5B3-430A-808F-98AC0302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009A-40B4-44F4-9959-3AC52F3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A08C-A3BD-4924-BB89-BA58538A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568D5-1F95-4C05-B35D-DA06FC9B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882B8-E2BC-4026-A9D5-2CBE5021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7EB7-411F-4539-B7F2-2C8CE47F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0EC8-E0EA-41B6-AE2E-9D01DB38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8E06-01F6-46DD-985E-46FC2E38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08E-459F-4BA2-83DF-551B970C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EC56-41B0-41BD-808F-6787CB4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A709-9B6F-406D-8404-39D3D1DF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6A65-5B06-4B57-B23C-C5997FBD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92D6-5879-41C1-A755-2FDC5343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C166-3022-415C-BFFD-F318AF7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35C41-A4FB-4039-AFD5-ACE08A2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D49D-3964-4494-A1A8-FB974D8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BCAC2-BA18-49D6-9FFF-948A35FD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03F8-C172-45B6-894F-124F0797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7C89-D65A-433B-B315-35CF379E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1BF-3249-4EAD-B1CF-FAAB9F0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F2864-19D3-4C45-9828-856EAD7C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42F-1E18-49D2-B9F2-1EE8341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889-3B5E-4A83-94FA-3B47F3BB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F3E-6E41-483F-87A8-08B7950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AA5-3807-403D-8AB4-AB1ADDD68448}" type="datetime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DD6D-7904-45A5-9144-04C0EFA80218}" type="slidenum">
              <a:rPr b="0" lang="en-US" sz="1400" spc="-1" strike="noStrike">
                <a:solidFill>
                  <a:srgbClr val="292929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文字方塊 47"/>
          <p:cNvSpPr/>
          <p:nvPr/>
        </p:nvSpPr>
        <p:spPr>
          <a:xfrm>
            <a:off x="424800" y="6583320"/>
            <a:ext cx="404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Verdana"/>
                <a:ea typeface="新細明體"/>
              </a:rPr>
              <a:t>© 2009 Welltech Computer Co., Ltd. All right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143000"/>
            <a:ext cx="754380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B43-4E34-4165-BAD8-DC664FAF5606}" type="datetime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C025-3DA9-4A4F-8ADD-43F8F018D98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字方塊 47"/>
          <p:cNvSpPr/>
          <p:nvPr/>
        </p:nvSpPr>
        <p:spPr>
          <a:xfrm>
            <a:off x="196200" y="6580080"/>
            <a:ext cx="404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  <a:ea typeface="新細明體"/>
              </a:rPr>
              <a:t>© 2008 Welltech Computer Co., Ltd. All right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7C7-B403-4AB6-874F-A9E9F759DD6F}" type="datetime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C9C-C3EF-488E-A9BF-2619D0A4526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字方塊 47"/>
          <p:cNvSpPr/>
          <p:nvPr/>
        </p:nvSpPr>
        <p:spPr>
          <a:xfrm>
            <a:off x="196200" y="6580080"/>
            <a:ext cx="404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  <a:ea typeface="新細明體"/>
              </a:rPr>
              <a:t>© 2008 Welltech Computer Co., Ltd. All right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33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6411-6D66-4925-8D4B-8EDE36E00B04}" type="datetime">
              <a:rPr b="0" lang="zh-TW" sz="1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3720" y="6400440"/>
            <a:ext cx="2971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&lt;footer&gt;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Welltech Computer Co.,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AF3-9B3C-43DC-8EA1-B3C342712ABF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33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061C-9BEF-4959-B276-FBF13B069117}" type="datetime">
              <a:rPr b="0" lang="zh-TW" sz="1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9CC-78F0-4965-9582-B973493403F7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167616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新細明體"/>
              </a:rPr>
              <a:t>Step 1</a:t>
            </a:r>
            <a:endParaRPr b="0" lang="en-US" sz="2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057400" y="5331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  <a:ea typeface="新細明體"/>
              </a:rPr>
              <a:t>Setup a TFTP( or FTP or HTTP)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7067520" cy="4890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086600" y="2286000"/>
            <a:ext cx="1752480" cy="53352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Execute 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257800" y="2438280"/>
            <a:ext cx="1752480" cy="152640"/>
          </a:xfrm>
          <a:prstGeom prst="line">
            <a:avLst/>
          </a:prstGeom>
          <a:ln cap="sq" w="12600">
            <a:solidFill>
              <a:srgbClr val="66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1BC5-DF92-40C1-B979-ECD3D43500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267080" cy="49626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304920" y="457200"/>
            <a:ext cx="16761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新細明體"/>
              </a:rPr>
              <a:t>Ste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428640" y="3276720"/>
            <a:ext cx="1981080" cy="0"/>
          </a:xfrm>
          <a:prstGeom prst="line">
            <a:avLst/>
          </a:prstGeom>
          <a:ln cap="sq" w="4140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467320" y="1371600"/>
            <a:ext cx="3676680" cy="4076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372600" y="1600200"/>
            <a:ext cx="1981080" cy="38088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Mac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010280" y="1828800"/>
            <a:ext cx="2286000" cy="0"/>
          </a:xfrm>
          <a:prstGeom prst="line">
            <a:avLst/>
          </a:prstGeom>
          <a:ln cap="sq" w="12600">
            <a:solidFill>
              <a:srgbClr val="66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72600" y="2362320"/>
            <a:ext cx="1981080" cy="38088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Account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924680" y="2361960"/>
            <a:ext cx="1371600" cy="228600"/>
          </a:xfrm>
          <a:prstGeom prst="line">
            <a:avLst/>
          </a:prstGeom>
          <a:ln cap="sq" w="12600">
            <a:solidFill>
              <a:srgbClr val="66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448920" y="2895480"/>
            <a:ext cx="1981080" cy="3812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Passwo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7620120" y="2590920"/>
            <a:ext cx="1752480" cy="457200"/>
          </a:xfrm>
          <a:prstGeom prst="line">
            <a:avLst/>
          </a:prstGeom>
          <a:ln cap="sq" w="12600">
            <a:solidFill>
              <a:srgbClr val="66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6120" y="4038480"/>
            <a:ext cx="3619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ATA can register to three different si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Ph1realm1 is for the first accou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Ph1realm2 is for the second accou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Ph1realm3 is for the third accou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Ph2 is for the phone2 of 17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057400" y="5335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  <a:ea typeface="新細明體"/>
              </a:rPr>
              <a:t>Set the Maclist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0CDB-1463-4406-B818-3A5CEA6A9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267080" cy="4962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304920" y="457200"/>
            <a:ext cx="16761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新細明體"/>
              </a:rPr>
              <a:t>St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524880" y="3124080"/>
            <a:ext cx="2667240" cy="121932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P Server 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the mutual setting can be set 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829800" y="4572000"/>
            <a:ext cx="361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You can Set $ for ATA to ingore i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70512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H="1">
            <a:off x="3962160" y="4495680"/>
            <a:ext cx="990360" cy="0"/>
          </a:xfrm>
          <a:prstGeom prst="line">
            <a:avLst/>
          </a:prstGeom>
          <a:ln cap="sq" w="31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229240" y="3962520"/>
            <a:ext cx="1143000" cy="0"/>
          </a:xfrm>
          <a:prstGeom prst="line">
            <a:avLst/>
          </a:prstGeom>
          <a:ln cap="sq"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9" name=""/>
          <p:cNvCxnSpPr/>
          <p:nvPr/>
        </p:nvCxnSpPr>
        <p:spPr>
          <a:xfrm rot="10800000">
            <a:off x="5028480" y="3733200"/>
            <a:ext cx="4725000" cy="1067400"/>
          </a:xfrm>
          <a:prstGeom prst="bentConnector5">
            <a:avLst>
              <a:gd name="adj1" fmla="val 10781"/>
              <a:gd name="adj2" fmla="val 314271"/>
              <a:gd name="adj3" fmla="val 104830"/>
            </a:avLst>
          </a:prstGeom>
          <a:ln cap="sq" w="12600">
            <a:solidFill>
              <a:srgbClr val="000080"/>
            </a:solidFill>
            <a:miter/>
            <a:tailEnd len="sm" type="triangle" w="sm"/>
          </a:ln>
        </p:spPr>
      </p:cxnSp>
      <p:sp>
        <p:nvSpPr>
          <p:cNvPr id="240" name="Rectangle 3"/>
          <p:cNvSpPr/>
          <p:nvPr/>
        </p:nvSpPr>
        <p:spPr>
          <a:xfrm>
            <a:off x="2057400" y="5335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  <a:ea typeface="新細明體"/>
              </a:rPr>
              <a:t>Set the StandwardCFG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E0C-8CDB-4E54-9744-91D1252C3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4962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"/>
          <p:cNvSpPr/>
          <p:nvPr/>
        </p:nvSpPr>
        <p:spPr>
          <a:xfrm>
            <a:off x="304920" y="457200"/>
            <a:ext cx="16761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新細明體"/>
              </a:rPr>
              <a:t>Ste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4038480"/>
            <a:ext cx="990720" cy="0"/>
          </a:xfrm>
          <a:prstGeom prst="line">
            <a:avLst/>
          </a:prstGeom>
          <a:ln cap="sq" w="31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829800" y="2209680"/>
            <a:ext cx="3581280" cy="106704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ect the path of Mac and standard f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clisk “ Start” to generate the configured f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8001000" y="2514240"/>
            <a:ext cx="1752480" cy="228600"/>
          </a:xfrm>
          <a:prstGeom prst="line">
            <a:avLst/>
          </a:prstGeom>
          <a:ln cap="sq" w="414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8001000" y="2743200"/>
            <a:ext cx="1752480" cy="152280"/>
          </a:xfrm>
          <a:prstGeom prst="line">
            <a:avLst/>
          </a:prstGeom>
          <a:ln cap="sq"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601200" y="3581280"/>
            <a:ext cx="3581280" cy="106704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 the excryption key as wellte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629040" y="3276720"/>
            <a:ext cx="2895480" cy="838080"/>
          </a:xfrm>
          <a:prstGeom prst="line">
            <a:avLst/>
          </a:prstGeom>
          <a:ln cap="sq" w="12600">
            <a:solidFill>
              <a:srgbClr val="99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001000" y="2743200"/>
            <a:ext cx="1752480" cy="1295280"/>
          </a:xfrm>
          <a:prstGeom prst="line">
            <a:avLst/>
          </a:prstGeom>
          <a:ln cap="sq"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057400" y="5335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  <a:ea typeface="新細明體"/>
              </a:rPr>
              <a:t>Generate the configured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962520" y="2209680"/>
            <a:ext cx="5000400" cy="33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86C-4C67-41D6-A5BA-69FF17AC5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457200"/>
            <a:ext cx="16761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新細明體"/>
              </a:rPr>
              <a:t>Ste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5562720"/>
            <a:ext cx="3581640" cy="10666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nfigured file is generated here with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c as the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038840" cy="422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943520" y="1143000"/>
            <a:ext cx="4200480" cy="449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 flipV="1">
            <a:off x="6019560" y="4495680"/>
            <a:ext cx="533160" cy="1524240"/>
          </a:xfrm>
          <a:prstGeom prst="line">
            <a:avLst/>
          </a:prstGeom>
          <a:ln cap="sq" w="54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5791320"/>
            <a:ext cx="3581280" cy="10666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 it to the folder of T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971440" y="4876560"/>
            <a:ext cx="152280" cy="990360"/>
          </a:xfrm>
          <a:prstGeom prst="line">
            <a:avLst/>
          </a:prstGeom>
          <a:ln cap="sq" w="54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7DF-AEBF-4305-BA85-8A55EE431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457200"/>
            <a:ext cx="16761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新細明體"/>
              </a:rPr>
              <a:t>Ste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3276720"/>
            <a:ext cx="3581280" cy="10666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ect the type of your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set the ip address of 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286000" y="1219320"/>
            <a:ext cx="7620120" cy="5829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 flipV="1">
            <a:off x="3352680" y="3352320"/>
            <a:ext cx="2819520" cy="228600"/>
          </a:xfrm>
          <a:prstGeom prst="line">
            <a:avLst/>
          </a:prstGeom>
          <a:ln cap="sq" w="12600">
            <a:solidFill>
              <a:srgbClr val="99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962160" y="3809880"/>
            <a:ext cx="2057400" cy="0"/>
          </a:xfrm>
          <a:prstGeom prst="line">
            <a:avLst/>
          </a:prstGeom>
          <a:ln cap="sq" w="12600">
            <a:solidFill>
              <a:srgbClr val="99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36F-F465-4542-8019-E6DAE4B899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3:58:01Z</dcterms:created>
  <dc:creator/>
  <dc:description/>
  <cp:keywords/>
  <dc:language>en-US</dc:language>
  <cp:lastModifiedBy>rod</cp:lastModifiedBy>
  <dcterms:modified xsi:type="dcterms:W3CDTF">2011-07-06T07:26:55Z</dcterms:modified>
  <cp:revision>581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8</vt:lpwstr>
  </property>
</Properties>
</file>